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9581-E2B0-4013-984A-97BCE97185C2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99FD-F156-4E9E-930D-82450803F7D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A50-F88C-47EF-B27E-0FC9DDC4FF74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89B1-5F94-4224-B753-BAA98E9D539F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18C-EDE4-41B1-85EA-B1476B653BB6}" type="slidenum"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he tutorial was designed to test the key skills that are vital to success in organic chemistry.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D6C-62D8-47EA-B65D-3982BCA8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801-0E38-481E-B2AB-3E308CAE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C98-34E6-4142-BEC1-B3FF1DD6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B4-EFD7-4FAA-A056-712D8616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0B9-A617-4B16-BA1D-7B4B3232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8D8-E828-4340-8958-BF4F8F5E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49D-01A6-472B-B6C1-E19B435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0C2-D473-4818-A173-19D7737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EFD-4367-45C0-817A-3CFA37B8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5C3-25BB-4B4D-AFAB-0EDE0B8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BB7-E9A0-42BE-AA22-FA83C5D9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CEE-4C71-4E75-9E68-F3F3F5CF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EDB-815D-4833-AECE-DC994782F184}" type="datetime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5E54-9923-444E-A2D6-01F62E7A3D4D}" type="slidenum">
              <a:rPr b="0" lang="en-GB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85840" y="1857240"/>
            <a:ext cx="4390920" cy="3778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Struggling with organic chemistry? </a:t>
            </a:r>
            <a:r>
              <a:rPr b="1" i="1" lang="en-GB" sz="2000" spc="-1" strike="noStrike">
                <a:solidFill>
                  <a:srgbClr val="000000"/>
                </a:solidFill>
                <a:latin typeface="Lucida Sans Unicode"/>
              </a:rPr>
              <a:t>Then try the Easter Exercise!, first trialled in 2010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 was designed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help students to improve their basic skills in organic chemist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assist them in working effectively on their ow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oost their confidence and keep them engag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" name="Picture 6" descr="org_example.jpg"/>
          <p:cNvPicPr/>
          <p:nvPr/>
        </p:nvPicPr>
        <p:blipFill>
          <a:blip r:embed="rId1"/>
          <a:stretch/>
        </p:blipFill>
        <p:spPr>
          <a:xfrm>
            <a:off x="4572000" y="2857680"/>
            <a:ext cx="4276800" cy="2428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85840" y="2000160"/>
            <a:ext cx="4390920" cy="45133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roblem set to complete over the Easter holida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 video mark scheme will be available for self-assess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Marks will reported back via VLE (+ your feedback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he video mark scheme resembles a tutor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4786200" y="2286000"/>
            <a:ext cx="4168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" name="Markscheme Q3.wmv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71560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631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1571760"/>
            <a:ext cx="4714920" cy="4639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375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d3f49"/>
                </a:solidFill>
                <a:latin typeface="Lucida Sans Unicode"/>
              </a:rPr>
              <a:t>Feedback from the students last year was excellent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The resources are fantastic…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…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 feel that I got some decent learning out of this exercis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	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‘</a:t>
            </a:r>
            <a:r>
              <a:rPr b="0" i="1" lang="en-GB" sz="2200" spc="-1" strike="noStrike">
                <a:solidFill>
                  <a:srgbClr val="2d3f49"/>
                </a:solidFill>
                <a:latin typeface="Lucida Sans Unicode"/>
              </a:rPr>
              <a:t>It was a brilliant exercise in covering things I had already understood, whilst simultaneously highlighting things I'd clearly managed to remember or even learn wrong in the first place.’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714920" y="2357280"/>
            <a:ext cx="427968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7"/>
          <p:cNvSpPr/>
          <p:nvPr/>
        </p:nvSpPr>
        <p:spPr>
          <a:xfrm>
            <a:off x="0" y="1857240"/>
            <a:ext cx="4714920" cy="3957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Some students talked about </a:t>
            </a:r>
            <a:r>
              <a:rPr b="1" lang="en-GB" sz="2400" spc="-1" strike="noStrike">
                <a:solidFill>
                  <a:srgbClr val="2d3f49"/>
                </a:solidFill>
                <a:latin typeface="Lucida Sans Unicode"/>
              </a:rPr>
              <a:t>reflection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Improvement in attainmen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Won the </a:t>
            </a:r>
            <a:r>
              <a:rPr b="1" lang="en-GB" sz="2400" spc="-1" strike="noStrike">
                <a:solidFill>
                  <a:srgbClr val="3333cc"/>
                </a:solidFill>
                <a:latin typeface="Lucida Sans Unicode"/>
              </a:rPr>
              <a:t>‘Most effective use of video in an educational context’ </a:t>
            </a: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award from the AL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5680" indent="-355680">
              <a:spcBef>
                <a:spcPts val="1500"/>
              </a:spcBef>
              <a:buClr>
                <a:srgbClr val="2d3f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3f49"/>
                </a:solidFill>
                <a:latin typeface="Lucida Sans Unicode"/>
              </a:rPr>
              <a:t>Further resources are being develop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260280"/>
            <a:ext cx="8785440" cy="1143000"/>
          </a:xfrm>
          <a:prstGeom prst="rect">
            <a:avLst/>
          </a:prstGeom>
          <a:solidFill>
            <a:srgbClr val="2d3f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eorgia"/>
              </a:rPr>
              <a:t>Support for organic chemistry: The Easter Exerci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714920" y="2571840"/>
            <a:ext cx="41688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22:55Z</dcterms:created>
  <dc:creator>user</dc:creator>
  <dc:description/>
  <dc:language>en-US</dc:language>
  <cp:lastModifiedBy>dr1d06</cp:lastModifiedBy>
  <dcterms:modified xsi:type="dcterms:W3CDTF">2011-03-28T19:10:53Z</dcterms:modified>
  <cp:revision>200</cp:revision>
  <dc:subject/>
  <dc:title>PowerPoint Presentation</dc:title>
</cp:coreProperties>
</file>